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7149960" cy="9450360"/>
          </a:xfrm>
          <a:custGeom>
            <a:avLst/>
            <a:gdLst>
              <a:gd name="textAreaLeft" fmla="*/ 360 w 7149960"/>
              <a:gd name="textAreaRight" fmla="*/ 7149600 w 7149960"/>
              <a:gd name="textAreaTop" fmla="*/ 360 h 9450360"/>
              <a:gd name="textAreaBottom" fmla="*/ 9450000 h 9450360"/>
            </a:gdLst>
            <a:ahLst/>
            <a:rect l="textAreaLeft" t="textAreaTop" r="textAreaRight" b="textAreaBottom"/>
            <a:pathLst>
              <a:path w="21600" h="28549">
                <a:moveTo>
                  <a:pt x="4" y="0"/>
                </a:moveTo>
                <a:arcTo wR="4" hR="4" stAng="16200000" swAng="-5400000"/>
                <a:lnTo>
                  <a:pt x="0" y="28545"/>
                </a:lnTo>
                <a:arcTo wR="4" hR="4" stAng="10800000" swAng="-5400000"/>
                <a:lnTo>
                  <a:pt x="21596" y="28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5"/>
          </p:nvPr>
        </p:nvSpPr>
        <p:spPr>
          <a:xfrm>
            <a:off x="4049640" y="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2840" cy="354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004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6"/>
          </p:nvPr>
        </p:nvSpPr>
        <p:spPr>
          <a:xfrm>
            <a:off x="-360" y="897408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7"/>
          </p:nvPr>
        </p:nvSpPr>
        <p:spPr>
          <a:xfrm>
            <a:off x="4049640" y="897408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31F9C-CA3E-4C55-808E-966824E2C7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2840" cy="35416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004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JFFS2 RAM usage and perform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er Alexey Korole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about easy applicable JFFS2 patches allowing to reduce JJFS2 RAM usage and increase file open, file stat performa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possible to provide direct write avoiding Linux VF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pplication requests to write some data to fi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comes to VFS layer. VFS calls JFFS2 file write oper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FFS2 writes all requested data - in this case the only one frag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be writ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mplementation assumes some insignificant JFFS2 modif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t provides the very easy way to reduce number of no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implemented th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4049640" y="897408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19B02-9FD3-49C2-91B0-111C14D415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97408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049640" y="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the comparison results of JFFS2 with Direct IO and generic JFFS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wrote data in 32KB chun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een that direct IO could reduce RAM usage over 3 times. On volume 160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Linear dependency of RAM usages from volume size is still exis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we changed the coefficient of linear depend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t was necessary to keep 40bytes descriptor per one 4KB page now we could have 1 descriptor per several possibly 8 p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049640" y="897408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B5967-DC84-410C-9749-D8C8CB5A23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97408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049640" y="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is about stat time. The chart shows that stat time could also be improved significan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049640" y="897408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0DFEE-3E1B-4E75-BB93-B2FC51BA6E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97408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049640" y="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is implementation gives significant advantages in RAM usage and easy applic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 it has some restri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: This solution is effective if applications write  in large chunks. Over 4K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pplications write data in small chunks fragments won't be merged until GC touches 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odel won't be effective if use-case assumes tons of tiny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ing VFS page cache use could have either positive or ne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quen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for media files it avoids wasting page cache. Could positively affect on system perform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databases, logs, documents using page cache is highly recomme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 is recommended using O_DIRECT file open flag to manag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we did special workaround providing cached read while direct wri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4049640" y="897408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9C190-5F63-4982-9FE5-4F8485A416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97408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049640" y="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le direct I/O feature is ready for use. (Linux-2.6.2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uld be downloaded from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ch is rather small and could be ported to different JFFS2 vers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we recently ported it to the one of JFFS2 version of Linux 2.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4049640" y="897408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937CC-371E-4D09-883A-2EB9599701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97408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049640" y="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end of presentation I'd like to talk about our prototype to impro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FFS2 RAM u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s to avoid restrictions : to use VFS direct write and restriction for appl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write data in large chun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assume that application writes data in different chun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o the standard procedure with VFS. But store the data in RAM buffer. And merge nodes in 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buffer will be full or VFS call JFFS2 to sync() we will flush RAM buff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121284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o conclude the resul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e prepared patches for JFFS2 to provide Direct IO in JFFS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t significantly reduces JFFS2 ram usage but does not completely solve scalability issue and lin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cy of RAM usage on volume size however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atch is easy applicable and most effective only if applications write data in Large chun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for your attention, I would appreciate your Questions, please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21284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for your attention, I would appreciate your Questions, pl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049640" y="897408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33FCC-3DCB-4E30-8C78-AD6F29B479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97408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049640" y="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 is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first I will give a brief information about JFFS2. It’s descrip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we will review the question of JFFS2 effectiveness on large volu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of all we define what LARGE me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we will look at the test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nswer the question why JFFS2 is ineffective on large volum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at we will talk how JFFS2 RAM usage could be improved withi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isting archite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first the general idea of improvement will be giv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we will consider implementation based on file direct I/O as a f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to reduce RAM usage and increase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I will show you test data collec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rovement based on file direct IO has some restrictions and drawbacks so we will tal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requirements and limi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ill talk about the current status and avail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end I will talk about next JFFS2 improvement allowing to remove restri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adding Direct IO fe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049640" y="897408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5C278-B157-4FA4-A252-3DC6014076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97408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049640" y="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supposing that some of you are new with JFFS2. So what is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Journalled flash file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pported in Linux for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orks with any kinds of NOR, NAND and DATAFLA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ly it is widely used in many configurations to provide F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 to memory technology de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pite of this advantages it has some issues on Large volu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049640" y="897408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620E9-894D-469E-9E36-3FEB492E6A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97408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049640" y="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It make sense to define what large volume me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the data got from Gartner Dataquest showing average NOR and NAND densities of cellular pho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can see the typical NOR density of featured phones will be 31MB in 2008 and 40MB in 200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NAND the values are 79MB and 146M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049640" y="897408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95825-B731-4969-8CF6-1D9F568D0B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97408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049640" y="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have a look at JFFS2 RAM usage and sta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can notice the value grows linearly. For 100MB used size RAM usage will be about 2M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value for file system RAM usage budget in featured phone is about 1MB – 1.5 MB.  More FS RAM usage cause phone designers compl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f flash density is over 80MB using JFFS2 becomes issue for design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4049640" y="897408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6B17C-CA6B-4CE4-8619-5D4C098C1A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97408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049640" y="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ile stat time or open time performance the situation is almost the s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time grows linearly depending on file or folder siz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ble time to open media file suitable for end user is 1s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dealing with files over 5MB also becomes a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049640" y="897408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4FBAE-FCFB-4E2C-AA1A-E4BB0945FF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97408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049640" y="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t happe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FFS2 assumes keeping nodes (fragment) descriptions in memory since the moment of getting file inf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number of nodes (fragments) becomes huge JFFS2 RAM usage becomes huge a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file consists of many fragments file open time becomes very long because JFFS2 needs to read every header from flas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rchitectural scalability issue of JFFS2. It is not possibl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ly solve it without complete file system redesign however there are worka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2840" cy="35416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004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ur approach to reducing RAM usage and decreasing file open time is conceptually simple (but effective)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duce the number of JFFS2 fra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need to have one descriptor in RAM for every fragment. Why not to reduce fragments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estion is how to reduce the number of JFFS2 fragm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t’s look at how this can be done…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s have a look at the file write proced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pplication requests to write some data to fi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comes to VFS layer. VFS calls JFFS2 file write oper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FFS2 calls VFS sync_write. This causes putting the data to VFS page cach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everal address space requests to write one page. As result on reques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to write 64KB data we have 16 requests to write page and 16 frag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039CF-CC0B-497C-BFDC-4365FD9A6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FDCB4-68FE-4933-90B5-223A0A232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FCE83-FFFF-4471-9DBC-E12E19ADF2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02C0D-F9A2-46F1-A4CE-03B8126748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D6C20-3708-44C5-8BB9-6F1F44C99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BB01A-65E4-472B-94F1-AC20F767DA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B3455-7AED-420F-9BA9-ED97169E90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C4DF0-36CC-4BE0-A522-D4ABD12D64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F40EC-02C8-4CD9-A93B-E92A4F9494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3DBFC-91A2-4A3C-9AAE-BA07BE6E44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D4E0D-B949-4847-8C29-A74A289B6E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5785B-216D-4968-8965-B4D8E86EF2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FA4CE-0E98-4FE9-A977-FB3E95ADE1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D20DC-88E8-4CD1-A942-E01C2D5826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A60AD-1CB9-46D8-A459-39BBE10C6E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8C46E-09A6-4BE1-9E4F-162FEF2615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DDB49-F896-4750-82CF-7DF60CF131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BDE84-3AAC-443B-8E42-7F6DB599764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42E2F-267B-400E-B27C-93E40ED232A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158B-93A6-4F72-9C73-7717FFA4D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DFD84-6CF8-458B-BE63-05085F95435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7E72-1E14-48FF-B09C-F717AFB919C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5624-DC02-44B2-9C4D-26C8FC33806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75B8-47E0-4E2D-A77B-EFB4C5EDB62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9EA7-4635-44DD-90C0-DF81FB1CE94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8741-8510-46DE-A9ED-6DC3E0555DA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8961-E61B-431B-B532-9B54B5B0922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A94B-0D0E-486E-8F3E-BB123A287FC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E709-AB0A-4540-9E4E-BF7F5D7993A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0A8D-CB09-4150-AF44-5B888016935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F496-44E7-49A8-9728-10B7F7ED9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D951C-3A84-42E7-A36D-69D370E6DAF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8DF2-66D1-4C91-A538-F85E7A976DB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73D25-51BC-49D2-847A-7950A7F7109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77ED9-002D-42F9-909E-EA22BED206A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EE42F-FC32-4F1D-8FD9-5E2E1034072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E7152-20D3-4129-97EF-FFC649A0028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89F37-96EC-46F3-8900-8BFA88A701B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3015C-C425-4A98-AFCB-4E8C402139A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AAD61-9EA3-4BF5-9ED6-6E1EA2503C1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03871-6049-43FE-9534-47EC535698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C7DAA-54B8-4DAB-AD18-348C62E3A86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E3DB0-9DA2-4233-B140-50E50D01B16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C8DF9-DDCF-4EC3-8F1A-2332A97BABB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DA691-18A7-4B2B-916B-6CBEA10C1E0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4CCE0-593D-4426-8902-C53976E7E6E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704EA-550E-40CA-94D8-0B2A2E703AB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CAEFF-EAE1-457C-8472-4C503F7BFC5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138200" y="6431040"/>
            <a:ext cx="4158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7355E0-D3C7-439B-A397-2460E5C3588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727280" y="5761080"/>
            <a:ext cx="3908520" cy="2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Verdana regular 7pt.</a:t>
            </a:r>
            <a:endParaRPr b="0" lang="en-US" sz="700" spc="-1" strike="noStrike">
              <a:solidFill>
                <a:srgbClr val="0860a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Legal text goes here</a:t>
            </a:r>
            <a:endParaRPr b="0" lang="en-US" sz="7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89720" y="628956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lash Products Group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2"/>
          </p:nvPr>
        </p:nvSpPr>
        <p:spPr>
          <a:xfrm>
            <a:off x="4138200" y="6431040"/>
            <a:ext cx="4158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B3FCF4-6450-46E5-9FB4-A0C33AAEF66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2280" y="6095880"/>
            <a:ext cx="3908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tel Confidential </a:t>
            </a:r>
            <a:endParaRPr b="0" lang="en-US" sz="16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9720" y="628956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lash Products Group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3"/>
          </p:nvPr>
        </p:nvSpPr>
        <p:spPr>
          <a:xfrm>
            <a:off x="4138200" y="6431040"/>
            <a:ext cx="4158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41949C-BC6A-4BFF-AF38-27D4B08F985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9720" y="628956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lash Products Group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4"/>
          </p:nvPr>
        </p:nvSpPr>
        <p:spPr>
          <a:xfrm>
            <a:off x="4138200" y="6431040"/>
            <a:ext cx="4158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A93712-479D-4188-993F-08EDD26EE63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89720" y="628956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lash Products Group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ourceforge.net/mtd-mod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sourceforge.net/mtd-mods" TargetMode="External"/><Relationship Id="rId3" Type="http://schemas.openxmlformats.org/officeDocument/2006/relationships/hyperlink" Target="mailto:alexey.korolev@intel.com" TargetMode="External"/><Relationship Id="rId4" Type="http://schemas.openxmlformats.org/officeDocument/2006/relationships/slideLayout" Target="../slideLayouts/slideLayout27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905120" y="1828440"/>
            <a:ext cx="565128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Improving JFFS2 RAM usage and performanc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276360" y="5638680"/>
            <a:ext cx="3300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ELC Europe 2007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191120" y="3048120"/>
            <a:ext cx="955440" cy="10666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6554520" y="4572000"/>
            <a:ext cx="176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860a8"/>
                </a:solidFill>
                <a:latin typeface="Verdana"/>
              </a:rPr>
              <a:t>Alexey Korolev</a:t>
            </a:r>
            <a:endParaRPr b="0" lang="en-US" sz="22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Using File Direct I/O to Reduce RAM Usage and Increase Performance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8600" y="971640"/>
            <a:ext cx="8686800" cy="100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ne way to reduce number of nodes (fragments) is to provide direct file IO interface support in JFFS2 and increase JFFS2 granularity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2" name=""/>
          <p:cNvSpPr/>
          <p:nvPr/>
        </p:nvSpPr>
        <p:spPr>
          <a:xfrm>
            <a:off x="1145520" y="2209680"/>
            <a:ext cx="1867680" cy="1191240"/>
          </a:xfrm>
          <a:prstGeom prst="rect">
            <a:avLst/>
          </a:pr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 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quests to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write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60720" y="2743200"/>
            <a:ext cx="503280" cy="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562200" y="2209680"/>
            <a:ext cx="781200" cy="3397320"/>
          </a:xfrm>
          <a:prstGeom prst="rect">
            <a:avLst/>
          </a:pr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282680" y="3581280"/>
            <a:ext cx="1308240" cy="1922760"/>
          </a:xfrm>
          <a:prstGeom prst="rect">
            <a:avLst/>
          </a:prstGeom>
          <a:solidFill>
            <a:srgbClr val="ff5c47"/>
          </a:solidFill>
          <a:ln w="381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64KB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343400" y="2209680"/>
            <a:ext cx="3182760" cy="825480"/>
            <a:chOff x="4343400" y="2209680"/>
            <a:chExt cx="3182760" cy="825480"/>
          </a:xfrm>
        </p:grpSpPr>
        <p:sp>
          <p:nvSpPr>
            <p:cNvPr id="397" name=""/>
            <p:cNvSpPr/>
            <p:nvPr/>
          </p:nvSpPr>
          <p:spPr>
            <a:xfrm>
              <a:off x="4343400" y="2635200"/>
              <a:ext cx="60948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952880" y="2209680"/>
              <a:ext cx="2573280" cy="825480"/>
            </a:xfrm>
            <a:prstGeom prst="rect">
              <a:avLst/>
            </a:pr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860a8"/>
                  </a:solidFill>
                  <a:latin typeface="Verdana"/>
                </a:rPr>
                <a:t>JFFS2</a:t>
              </a:r>
              <a:endParaRPr b="0" lang="en-US" sz="2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860a8"/>
                  </a:solidFill>
                  <a:latin typeface="Verdana"/>
                </a:rPr>
                <a:t>file_ops.write()</a:t>
              </a:r>
              <a:endParaRPr b="0" lang="en-US" sz="24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6172200" y="3124080"/>
            <a:ext cx="0" cy="4572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0" y="3581280"/>
            <a:ext cx="3597120" cy="825480"/>
          </a:xfrm>
          <a:prstGeom prst="rect">
            <a:avLst/>
          </a:pr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Write one fragment of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152280" y="1219320"/>
          <a:ext cx="8610840" cy="446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19320"/>
                    <a:ext cx="8610840" cy="44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est Resul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7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JFFS2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RAM Usage for Different Volume Siz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5" name=""/>
          <p:cNvSpPr/>
          <p:nvPr/>
        </p:nvSpPr>
        <p:spPr>
          <a:xfrm>
            <a:off x="2666880" y="54864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46240" indent="-244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olume Size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16200000">
            <a:off x="-1148040" y="3116520"/>
            <a:ext cx="320040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Arial"/>
              </a:rPr>
              <a:t>JFFS2 RAM usage (MB)</a:t>
            </a:r>
            <a:r>
              <a:rPr b="0" lang="en-US" sz="2000" spc="-1" strike="noStrike">
                <a:solidFill>
                  <a:srgbClr val="0860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29400" y="457200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46240" indent="-2448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c47"/>
                </a:solidFill>
                <a:latin typeface="Verdana"/>
              </a:rPr>
              <a:t>3.5X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304920" y="1523880"/>
          <a:ext cx="8458200" cy="406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45820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est Resul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002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a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Time Performance for Different File Siz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2" name=""/>
          <p:cNvSpPr/>
          <p:nvPr/>
        </p:nvSpPr>
        <p:spPr>
          <a:xfrm>
            <a:off x="3200400" y="5334120"/>
            <a:ext cx="1600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le Size (MB)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-533160" y="3200400"/>
            <a:ext cx="2362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46240" indent="-2448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at Time(sec) 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781680" y="44956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c47"/>
                </a:solidFill>
                <a:latin typeface="Verdana"/>
              </a:rPr>
              <a:t>&gt;4X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5760" y="177480"/>
            <a:ext cx="823752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Requirements and Limitations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990720"/>
            <a:ext cx="7848360" cy="36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lication should write data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rge chunks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Arial"/>
              </a:rPr>
              <a:t>If applications write data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Arial"/>
              </a:rPr>
              <a:t>in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Arial"/>
              </a:rPr>
              <a:t>small chunks,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Arial"/>
              </a:rPr>
              <a:t>fragments won’t be combined until garbage collecto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Arial"/>
              </a:rPr>
              <a:t>touches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Arial"/>
              </a:rPr>
              <a:t>it 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s model not effective if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re are tons of tiny files 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voiding VFS page cache use could have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itive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d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gative consequences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ing</a:t>
            </a: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file open flag is recommended*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Arial"/>
              </a:rPr>
              <a:t>Fo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Arial"/>
              </a:rPr>
              <a:t>media files it avoids wasting page cache space and this could positively affect on system performance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Arial"/>
              </a:rPr>
              <a:t>Fo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Arial"/>
              </a:rPr>
              <a:t>databases, logs,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Arial"/>
              </a:rPr>
              <a:t>and documents,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Arial"/>
              </a:rPr>
              <a:t>using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Arial"/>
              </a:rPr>
              <a:t>the page cache is highly recommended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0080" y="5592600"/>
            <a:ext cx="66362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Arial"/>
              </a:rPr>
              <a:t>* We have patch providing reading through VFS cache while direct write</a:t>
            </a:r>
            <a:endParaRPr b="0" lang="en-US" sz="16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760" y="177480"/>
            <a:ext cx="823752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Current status and availability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9" name=""/>
          <p:cNvSpPr/>
          <p:nvPr/>
        </p:nvSpPr>
        <p:spPr>
          <a:xfrm>
            <a:off x="304920" y="1143000"/>
            <a:ext cx="784836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The File direct I/O feature is ready for use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(Linux-2.6.20)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It can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be downloaded from </a:t>
            </a:r>
            <a:r>
              <a:rPr b="0" lang="en-US" sz="2000" spc="-1" strike="noStrike" u="sng">
                <a:solidFill>
                  <a:srgbClr val="0c2e86"/>
                </a:solidFill>
                <a:uFillTx/>
                <a:latin typeface="Verdana"/>
                <a:ea typeface="Arial"/>
                <a:hlinkClick r:id="rId1"/>
              </a:rPr>
              <a:t>www.sourceforge.net/mtd-mods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The patch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size is &lt;50Kb and can be easily ported to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other JFFS2 versions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0152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Deferred Write and RAM Buffer as a RAM Usage Reduction Prototype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1" name=""/>
          <p:cNvSpPr/>
          <p:nvPr/>
        </p:nvSpPr>
        <p:spPr>
          <a:xfrm>
            <a:off x="173880" y="1843200"/>
            <a:ext cx="1587240" cy="1008720"/>
          </a:xfrm>
          <a:prstGeom prst="rect">
            <a:avLst/>
          </a:pr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pplication 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quests to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rite data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828800" y="1604880"/>
            <a:ext cx="825480" cy="4208760"/>
            <a:chOff x="1828800" y="1604880"/>
            <a:chExt cx="825480" cy="4208760"/>
          </a:xfrm>
        </p:grpSpPr>
        <p:sp>
          <p:nvSpPr>
            <p:cNvPr id="423" name=""/>
            <p:cNvSpPr/>
            <p:nvPr/>
          </p:nvSpPr>
          <p:spPr>
            <a:xfrm>
              <a:off x="1828800" y="2456640"/>
              <a:ext cx="32400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152800" y="1604880"/>
              <a:ext cx="501480" cy="4208760"/>
            </a:xfrm>
            <a:prstGeom prst="rect">
              <a:avLst/>
            </a:pr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V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F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304920" y="2976480"/>
            <a:ext cx="1307880" cy="398880"/>
          </a:xfrm>
          <a:prstGeom prst="rect">
            <a:avLst/>
          </a:prstGeom>
          <a:solidFill>
            <a:srgbClr val="ff5c47"/>
          </a:solidFill>
          <a:ln w="381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6KB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666880" y="1833480"/>
            <a:ext cx="633600" cy="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300480" y="1528920"/>
            <a:ext cx="2033640" cy="642600"/>
          </a:xfrm>
          <a:prstGeom prst="rect">
            <a:avLst/>
          </a:pr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JFFS2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le_ops.write()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cxnSp>
        <p:nvCxnSpPr>
          <p:cNvPr id="428" name=""/>
          <p:cNvCxnSpPr>
            <a:stCxn id="427" idx="3"/>
            <a:endCxn id="429" idx="3"/>
          </p:cNvCxnSpPr>
          <p:nvPr/>
        </p:nvCxnSpPr>
        <p:spPr>
          <a:xfrm>
            <a:off x="5359320" y="1874520"/>
            <a:ext cx="162720" cy="710280"/>
          </a:xfrm>
          <a:prstGeom prst="curvedConnector5">
            <a:avLst>
              <a:gd name="adj1" fmla="val 229268"/>
              <a:gd name="adj2" fmla="val 50000"/>
              <a:gd name="adj3" fmla="val 229268"/>
            </a:avLst>
          </a:prstGeom>
          <a:ln w="50760">
            <a:solidFill>
              <a:srgbClr val="0860a8"/>
            </a:solidFill>
            <a:miter/>
            <a:tailEnd len="med" type="triangle" w="med"/>
          </a:ln>
        </p:spPr>
      </p:cxnSp>
      <p:grpSp>
        <p:nvGrpSpPr>
          <p:cNvPr id="430" name=""/>
          <p:cNvGrpSpPr/>
          <p:nvPr/>
        </p:nvGrpSpPr>
        <p:grpSpPr>
          <a:xfrm>
            <a:off x="2666880" y="2367000"/>
            <a:ext cx="2686320" cy="398880"/>
            <a:chOff x="2666880" y="2367000"/>
            <a:chExt cx="2686320" cy="398880"/>
          </a:xfrm>
        </p:grpSpPr>
        <p:sp>
          <p:nvSpPr>
            <p:cNvPr id="429" name=""/>
            <p:cNvSpPr/>
            <p:nvPr/>
          </p:nvSpPr>
          <p:spPr>
            <a:xfrm>
              <a:off x="3348360" y="2367000"/>
              <a:ext cx="2004840" cy="398880"/>
            </a:xfrm>
            <a:prstGeom prst="rect">
              <a:avLst/>
            </a:prstGeom>
            <a:noFill/>
            <a:ln w="381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860a8"/>
                  </a:solidFill>
                  <a:latin typeface="Verdana"/>
                </a:rPr>
                <a:t>do_sync_write()</a:t>
              </a: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666880" y="2595600"/>
              <a:ext cx="59328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5257800" y="3381480"/>
            <a:ext cx="1143000" cy="1191240"/>
          </a:xfrm>
          <a:prstGeom prst="rect">
            <a:avLst/>
          </a:pr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JFFS2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rite</a:t>
            </a:r>
            <a:r>
              <a:rPr b="0" lang="ru-RU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M 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ffer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124080" y="3205080"/>
            <a:ext cx="1606680" cy="368280"/>
          </a:xfrm>
          <a:prstGeom prst="rect">
            <a:avLst/>
          </a:prstGeom>
          <a:solidFill>
            <a:srgbClr val="ff5c47"/>
          </a:solidFill>
          <a:ln w="381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4KB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124080" y="3586320"/>
            <a:ext cx="1606680" cy="368280"/>
          </a:xfrm>
          <a:prstGeom prst="rect">
            <a:avLst/>
          </a:prstGeom>
          <a:solidFill>
            <a:srgbClr val="ff5c47"/>
          </a:solidFill>
          <a:ln w="381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2KB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3940200"/>
            <a:ext cx="1606680" cy="368280"/>
          </a:xfrm>
          <a:prstGeom prst="rect">
            <a:avLst/>
          </a:prstGeom>
          <a:solidFill>
            <a:srgbClr val="ff5c47"/>
          </a:solidFill>
          <a:ln w="381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KB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124080" y="4295880"/>
            <a:ext cx="1606680" cy="368280"/>
          </a:xfrm>
          <a:prstGeom prst="rect">
            <a:avLst/>
          </a:prstGeom>
          <a:solidFill>
            <a:srgbClr val="ff5c47"/>
          </a:solidFill>
          <a:ln w="381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724280" y="3457440"/>
            <a:ext cx="533160" cy="1006560"/>
            <a:chOff x="4724280" y="3457440"/>
            <a:chExt cx="533160" cy="1006560"/>
          </a:xfrm>
        </p:grpSpPr>
        <p:sp>
          <p:nvSpPr>
            <p:cNvPr id="438" name=""/>
            <p:cNvSpPr/>
            <p:nvPr/>
          </p:nvSpPr>
          <p:spPr>
            <a:xfrm>
              <a:off x="4724280" y="3457440"/>
              <a:ext cx="52848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728960" y="3776760"/>
              <a:ext cx="52848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28960" y="4130640"/>
              <a:ext cx="52848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28960" y="4464000"/>
              <a:ext cx="52848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6537240" y="3373560"/>
            <a:ext cx="1082880" cy="1191240"/>
          </a:xfrm>
          <a:prstGeom prst="rect">
            <a:avLst/>
          </a:pr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Merge 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nodes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28120" y="3309840"/>
            <a:ext cx="1155600" cy="1313640"/>
          </a:xfrm>
          <a:prstGeom prst="rect">
            <a:avLst/>
          </a:prstGeom>
          <a:solidFill>
            <a:srgbClr val="ff5c47"/>
          </a:solidFill>
          <a:ln w="381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arge chunks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666880" y="3433680"/>
            <a:ext cx="456840" cy="1006560"/>
            <a:chOff x="2666880" y="3433680"/>
            <a:chExt cx="456840" cy="1006560"/>
          </a:xfrm>
        </p:grpSpPr>
        <p:sp>
          <p:nvSpPr>
            <p:cNvPr id="445" name=""/>
            <p:cNvSpPr/>
            <p:nvPr/>
          </p:nvSpPr>
          <p:spPr>
            <a:xfrm>
              <a:off x="2666880" y="3433680"/>
              <a:ext cx="45288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70840" y="3753000"/>
              <a:ext cx="45288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70840" y="4106880"/>
              <a:ext cx="45288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70840" y="4440240"/>
              <a:ext cx="45288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666880" y="5415120"/>
            <a:ext cx="633600" cy="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323160" y="5186520"/>
            <a:ext cx="840600" cy="368280"/>
          </a:xfrm>
          <a:prstGeom prst="rect">
            <a:avLst/>
          </a:pr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Sync()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191120" y="5415120"/>
            <a:ext cx="633240" cy="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76920" y="5027760"/>
            <a:ext cx="2057400" cy="642600"/>
          </a:xfrm>
          <a:prstGeom prst="rect">
            <a:avLst/>
          </a:pr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JFFS2 flush</a:t>
            </a:r>
            <a:r>
              <a:rPr b="0" lang="ru-RU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M buffer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3433680"/>
            <a:ext cx="1307880" cy="398880"/>
          </a:xfrm>
          <a:prstGeom prst="rect">
            <a:avLst/>
          </a:prstGeom>
          <a:solidFill>
            <a:srgbClr val="ff5c47"/>
          </a:solidFill>
          <a:ln w="381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1KB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04920" y="3890880"/>
            <a:ext cx="1307880" cy="398880"/>
          </a:xfrm>
          <a:prstGeom prst="rect">
            <a:avLst/>
          </a:prstGeom>
          <a:solidFill>
            <a:srgbClr val="ff5c47"/>
          </a:solidFill>
          <a:ln w="381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4KB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04920" y="4348080"/>
            <a:ext cx="1307880" cy="398880"/>
          </a:xfrm>
          <a:prstGeom prst="rect">
            <a:avLst/>
          </a:prstGeom>
          <a:solidFill>
            <a:srgbClr val="ff5c47"/>
          </a:solidFill>
          <a:ln w="381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0400" y="874800"/>
            <a:ext cx="69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Arial"/>
              </a:rPr>
              <a:t>Compared</a:t>
            </a: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Arial"/>
              </a:rPr>
              <a:t>to Direct IO,</a:t>
            </a: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Arial"/>
              </a:rPr>
              <a:t>deferred write</a:t>
            </a: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Arial"/>
              </a:rPr>
              <a:t>is effective even if applications write</a:t>
            </a: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Arial"/>
              </a:rPr>
              <a:t>data in small chunks.</a:t>
            </a: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838080"/>
            <a:ext cx="83055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Patches to provide Direct I/O in JFFS2 are ready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+ Significantly reduce RAM usage and open time</a:t>
            </a:r>
            <a:br>
              <a:rPr sz="22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+ Easy applicable</a:t>
            </a:r>
            <a:br>
              <a:rPr sz="22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- Has restrictions on large write chunks</a:t>
            </a:r>
            <a:endParaRPr b="0" lang="en-US" sz="2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DBD02-D916-4778-840D-A77DC6FAA0F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Q &amp; A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4038480" y="1219320"/>
            <a:ext cx="1024200" cy="11430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657600" y="27432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Questions ?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04920" y="4724280"/>
            <a:ext cx="8305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Link:  </a:t>
            </a:r>
            <a:r>
              <a:rPr b="1" lang="en-US" sz="2800" spc="-1" strike="noStrike" u="sng">
                <a:solidFill>
                  <a:srgbClr val="0c2e86"/>
                </a:solidFill>
                <a:uFillTx/>
                <a:latin typeface="Verdana"/>
                <a:hlinkClick r:id="rId2"/>
              </a:rPr>
              <a:t>http://sourceforge.net/mtd-mods</a:t>
            </a:r>
            <a:br>
              <a:rPr sz="2800"/>
            </a:br>
            <a:r>
              <a:rPr b="1" lang="en-US" sz="2800" spc="-1" strike="noStrike" u="sng">
                <a:solidFill>
                  <a:srgbClr val="0860a8"/>
                </a:solidFill>
                <a:uFillTx/>
                <a:latin typeface="Verdana"/>
              </a:rPr>
              <a:t>mailto: </a:t>
            </a:r>
            <a:r>
              <a:rPr b="1" lang="en-US" sz="2800" spc="-1" strike="noStrike" u="sng">
                <a:solidFill>
                  <a:srgbClr val="0c2e86"/>
                </a:solidFill>
                <a:uFillTx/>
                <a:latin typeface="Verdana"/>
                <a:hlinkClick r:id="rId3"/>
              </a:rPr>
              <a:t>alexey.korolev@intel.com</a:t>
            </a:r>
            <a:br>
              <a:rPr sz="2800"/>
            </a:b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EA586-F920-4157-8F3D-F6A688829A39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genda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JFFS2 in brief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JFFS2 efficiency on large volum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rket data on flash densiti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olume size test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y JFFS2 is inefficient on large volum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roving JFFS2 RAM usage and performance within existing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posed improvement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le direct I/O as a fast solution to reduce RAM usage and increase performan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est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irements and limita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urrent status and avail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ferred write and JFFS2 RAM buffer as a RAM usage reduction prototyp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Q&amp;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JFFS2 in brief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Journaling Flash File System version 2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upported in Linux for years since 2001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orks with NOR, NOR-ECC, NOR with programming regions, NAND and Dataflash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idely used in many configurations to provide FS interface to memory technology device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ecasted Flash Densiti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486400" y="2852640"/>
          <a:ext cx="3505320" cy="1262160"/>
        </p:xfrm>
        <a:graphic>
          <a:graphicData uri="http://schemas.openxmlformats.org/drawingml/2006/table">
            <a:tbl>
              <a:tblPr/>
              <a:tblGrid>
                <a:gridCol w="744480"/>
                <a:gridCol w="776520"/>
                <a:gridCol w="611280"/>
                <a:gridCol w="734760"/>
                <a:gridCol w="638280"/>
              </a:tblGrid>
              <a:tr h="53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2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Arial"/>
                          <a:ea typeface="Arial"/>
                        </a:rPr>
                        <a:t>NOR </a:t>
                      </a:r>
                      <a:endParaRPr b="0" lang="en-US" sz="14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2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Arial"/>
                          <a:ea typeface="Arial"/>
                        </a:rPr>
                        <a:t>25.8</a:t>
                      </a:r>
                      <a:endParaRPr b="0" lang="en-US" sz="14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2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Arial"/>
                          <a:ea typeface="Arial"/>
                        </a:rPr>
                        <a:t>31.5</a:t>
                      </a:r>
                      <a:endParaRPr b="0" lang="en-US" sz="14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2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Arial"/>
                          <a:ea typeface="Arial"/>
                        </a:rPr>
                        <a:t>40.2</a:t>
                      </a:r>
                      <a:endParaRPr b="0" lang="en-US" sz="14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2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Arial"/>
                          <a:ea typeface="Arial"/>
                        </a:rPr>
                        <a:t>48.8</a:t>
                      </a:r>
                      <a:endParaRPr b="0" lang="en-US" sz="14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2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Arial"/>
                          <a:ea typeface="Arial"/>
                        </a:rPr>
                        <a:t>NAND </a:t>
                      </a:r>
                      <a:endParaRPr b="0" lang="en-US" sz="14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2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2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2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Arial"/>
                          <a:ea typeface="Arial"/>
                        </a:rPr>
                        <a:t>146</a:t>
                      </a:r>
                      <a:endParaRPr b="0" lang="en-US" sz="14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2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Arial"/>
                          <a:ea typeface="Arial"/>
                        </a:rPr>
                        <a:t>239</a:t>
                      </a:r>
                      <a:endParaRPr b="0" lang="en-US" sz="14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304920" y="1852560"/>
          <a:ext cx="5029200" cy="332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52560"/>
                    <a:ext cx="502920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304920" y="990720"/>
            <a:ext cx="6933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Cellular Handsets Forecasted NOR and NAND Densities in MB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Volume size test data</a:t>
            </a: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"/>
          <p:cNvSpPr/>
          <p:nvPr/>
        </p:nvSpPr>
        <p:spPr>
          <a:xfrm>
            <a:off x="3352680" y="4876920"/>
            <a:ext cx="320040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Arial"/>
              </a:rPr>
              <a:t>Volume used size (MB)</a:t>
            </a:r>
            <a:r>
              <a:rPr b="0" lang="en-US" sz="2000" spc="-1" strike="noStrike">
                <a:solidFill>
                  <a:srgbClr val="0860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143000" y="1066680"/>
          <a:ext cx="7773840" cy="37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7773840" cy="37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 rot="16200000">
            <a:off x="-830520" y="2659320"/>
            <a:ext cx="320040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Arial"/>
              </a:rPr>
              <a:t>JFFS2 RAM usage (MB)</a:t>
            </a:r>
            <a:r>
              <a:rPr b="0" lang="en-US" sz="2000" spc="-1" strike="noStrike">
                <a:solidFill>
                  <a:srgbClr val="0860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Volume size test data</a:t>
            </a: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3352680" y="4876920"/>
            <a:ext cx="320040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Arial"/>
              </a:rPr>
              <a:t>File size (MB)</a:t>
            </a:r>
            <a:r>
              <a:rPr b="0" lang="en-US" sz="2000" spc="-1" strike="noStrike">
                <a:solidFill>
                  <a:srgbClr val="0860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143000" y="1066680"/>
          <a:ext cx="7553160" cy="380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7553160" cy="38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 rot="16200000">
            <a:off x="-563760" y="2773800"/>
            <a:ext cx="266688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Arial"/>
              </a:rPr>
              <a:t>File open time (sec)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Why Does JFFS2 Become Inefficient on Large Data Volumes?</a:t>
            </a:r>
            <a:br>
              <a:rPr sz="2200"/>
            </a:b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066680"/>
            <a:ext cx="769608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JFFS2 assumes keeping nodes (fragment) descriptions in memory since the moment of getting file info.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860a8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JFFS2 RAM usage increases linearly as the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number of nodes increases (Every data node takes 40bytes of RAM)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860a8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If a file has many fragments,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file open time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increases significantly because JFFS2 needs to read every header from flash 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marL="347760" indent="-34776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is is the architectural scalability issue of JFFS2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marL="347760" indent="-34776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marL="347760" indent="-34776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is not possible to completely solve it without a complete file system redesign, however there are workarounds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Improving RAM Usage and File Open Time Within Existing JFFS2 Architecture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375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Our approach to reducing RAM usage and decreasing file open time is conceptually simple (but effective)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Reduce the number of JFFS2 frag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3429000"/>
            <a:ext cx="8237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et’s look at how this can be done… 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10152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Using File Direct I/O to Reduce RAM Usage and Increase Performance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380880" y="9907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Lets look at the file write procedure</a:t>
            </a:r>
            <a:endParaRPr b="0" lang="en-US" sz="2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4760" y="1905120"/>
            <a:ext cx="1587240" cy="1008720"/>
          </a:xfrm>
          <a:prstGeom prst="rect">
            <a:avLst/>
          </a:pr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pplication 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quests to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rite data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222640" y="1600200"/>
            <a:ext cx="1282320" cy="3448080"/>
            <a:chOff x="2222640" y="1600200"/>
            <a:chExt cx="1282320" cy="3448080"/>
          </a:xfrm>
        </p:grpSpPr>
        <p:sp>
          <p:nvSpPr>
            <p:cNvPr id="363" name=""/>
            <p:cNvSpPr/>
            <p:nvPr/>
          </p:nvSpPr>
          <p:spPr>
            <a:xfrm>
              <a:off x="2222640" y="2451960"/>
              <a:ext cx="50328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24480" y="1600200"/>
              <a:ext cx="780480" cy="3448080"/>
            </a:xfrm>
            <a:prstGeom prst="rect">
              <a:avLst/>
            </a:pr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860a8"/>
                  </a:solidFill>
                  <a:latin typeface="Verdana"/>
                </a:rPr>
                <a:t>V</a:t>
              </a: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860a8"/>
                  </a:solidFill>
                  <a:latin typeface="Verdana"/>
                </a:rPr>
                <a:t>F</a:t>
              </a: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860a8"/>
                  </a:solidFill>
                  <a:latin typeface="Verdana"/>
                </a:rPr>
                <a:t>S</a:t>
              </a: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703440" y="3227400"/>
            <a:ext cx="1307880" cy="1618560"/>
          </a:xfrm>
          <a:prstGeom prst="rect">
            <a:avLst/>
          </a:prstGeom>
          <a:solidFill>
            <a:srgbClr val="ff5c47"/>
          </a:solidFill>
          <a:ln w="381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64KB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505320" y="1600200"/>
            <a:ext cx="3182760" cy="703800"/>
            <a:chOff x="3505320" y="1600200"/>
            <a:chExt cx="3182760" cy="703800"/>
          </a:xfrm>
        </p:grpSpPr>
        <p:sp>
          <p:nvSpPr>
            <p:cNvPr id="367" name=""/>
            <p:cNvSpPr/>
            <p:nvPr/>
          </p:nvSpPr>
          <p:spPr>
            <a:xfrm>
              <a:off x="3505320" y="1905120"/>
              <a:ext cx="60948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14800" y="1600200"/>
              <a:ext cx="2573280" cy="703800"/>
            </a:xfrm>
            <a:prstGeom prst="rect">
              <a:avLst/>
            </a:pr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860a8"/>
                  </a:solidFill>
                  <a:latin typeface="Verdana"/>
                </a:rPr>
                <a:t>JFFS2</a:t>
              </a: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860a8"/>
                  </a:solidFill>
                  <a:latin typeface="Verdana"/>
                </a:rPr>
                <a:t>file_ops.write()</a:t>
              </a: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cxnSp>
        <p:nvCxnSpPr>
          <p:cNvPr id="369" name=""/>
          <p:cNvCxnSpPr>
            <a:stCxn id="368" idx="3"/>
            <a:endCxn id="370" idx="3"/>
          </p:cNvCxnSpPr>
          <p:nvPr/>
        </p:nvCxnSpPr>
        <p:spPr>
          <a:xfrm>
            <a:off x="6713640" y="1976400"/>
            <a:ext cx="140400" cy="867600"/>
          </a:xfrm>
          <a:prstGeom prst="curvedConnector5">
            <a:avLst>
              <a:gd name="adj1" fmla="val 248843"/>
              <a:gd name="adj2" fmla="val 49979"/>
              <a:gd name="adj3" fmla="val 248843"/>
            </a:avLst>
          </a:prstGeom>
          <a:ln w="50760">
            <a:solidFill>
              <a:srgbClr val="0860a8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4114800" y="2624040"/>
            <a:ext cx="2719440" cy="398880"/>
          </a:xfrm>
          <a:prstGeom prst="rect">
            <a:avLst/>
          </a:prstGeom>
          <a:noFill/>
          <a:ln w="381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do_sync_write()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3504960" y="2793960"/>
            <a:ext cx="609480" cy="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505320" y="3200400"/>
            <a:ext cx="4800600" cy="398880"/>
            <a:chOff x="3505320" y="3200400"/>
            <a:chExt cx="4800600" cy="398880"/>
          </a:xfrm>
        </p:grpSpPr>
        <p:sp>
          <p:nvSpPr>
            <p:cNvPr id="373" name=""/>
            <p:cNvSpPr/>
            <p:nvPr/>
          </p:nvSpPr>
          <p:spPr>
            <a:xfrm>
              <a:off x="3505320" y="3429000"/>
              <a:ext cx="53316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038480" y="3200400"/>
              <a:ext cx="4267440" cy="398880"/>
            </a:xfrm>
            <a:prstGeom prst="rect">
              <a:avLst/>
            </a:prstGeom>
            <a:noFill/>
            <a:ln w="381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860a8"/>
                  </a:solidFill>
                  <a:latin typeface="Verdana"/>
                </a:rPr>
                <a:t>add to VFS pg cache</a:t>
              </a: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562720" y="4229280"/>
            <a:ext cx="685800" cy="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248520" y="3860640"/>
            <a:ext cx="2217600" cy="1008720"/>
          </a:xfrm>
          <a:prstGeom prst="rect">
            <a:avLst/>
          </a:pr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JFFS2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rite_page()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3956040" y="3657600"/>
            <a:ext cx="1606680" cy="779760"/>
            <a:chOff x="3956040" y="3657600"/>
            <a:chExt cx="1606680" cy="779760"/>
          </a:xfrm>
        </p:grpSpPr>
        <p:sp>
          <p:nvSpPr>
            <p:cNvPr id="378" name=""/>
            <p:cNvSpPr/>
            <p:nvPr/>
          </p:nvSpPr>
          <p:spPr>
            <a:xfrm>
              <a:off x="3956040" y="4038480"/>
              <a:ext cx="1606680" cy="398880"/>
            </a:xfrm>
            <a:prstGeom prst="rect">
              <a:avLst/>
            </a:prstGeom>
            <a:solidFill>
              <a:srgbClr val="ff5c47"/>
            </a:solidFill>
            <a:ln w="381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860a8"/>
                  </a:solidFill>
                  <a:latin typeface="Verdana"/>
                </a:rPr>
                <a:t>0-4KB</a:t>
              </a: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2000" y="3657600"/>
              <a:ext cx="0" cy="3808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3956040" y="4495680"/>
            <a:ext cx="2292480" cy="398880"/>
            <a:chOff x="3956040" y="4495680"/>
            <a:chExt cx="2292480" cy="398880"/>
          </a:xfrm>
        </p:grpSpPr>
        <p:sp>
          <p:nvSpPr>
            <p:cNvPr id="381" name=""/>
            <p:cNvSpPr/>
            <p:nvPr/>
          </p:nvSpPr>
          <p:spPr>
            <a:xfrm>
              <a:off x="3956040" y="4495680"/>
              <a:ext cx="1606680" cy="398880"/>
            </a:xfrm>
            <a:prstGeom prst="rect">
              <a:avLst/>
            </a:prstGeom>
            <a:solidFill>
              <a:srgbClr val="ff5c47"/>
            </a:solidFill>
            <a:ln w="381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860a8"/>
                  </a:solidFill>
                  <a:latin typeface="Verdana"/>
                </a:rPr>
                <a:t>4-8KB</a:t>
              </a: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562720" y="4686120"/>
              <a:ext cx="68580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956040" y="4952880"/>
            <a:ext cx="2292480" cy="398880"/>
            <a:chOff x="3956040" y="4952880"/>
            <a:chExt cx="2292480" cy="398880"/>
          </a:xfrm>
        </p:grpSpPr>
        <p:sp>
          <p:nvSpPr>
            <p:cNvPr id="384" name=""/>
            <p:cNvSpPr/>
            <p:nvPr/>
          </p:nvSpPr>
          <p:spPr>
            <a:xfrm>
              <a:off x="3956040" y="4952880"/>
              <a:ext cx="1606680" cy="398880"/>
            </a:xfrm>
            <a:prstGeom prst="rect">
              <a:avLst/>
            </a:prstGeom>
            <a:solidFill>
              <a:srgbClr val="ff5c47"/>
            </a:solidFill>
            <a:ln w="381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860a8"/>
                  </a:solidFill>
                  <a:latin typeface="Verdana"/>
                </a:rPr>
                <a:t>…</a:t>
              </a: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62720" y="5143320"/>
              <a:ext cx="68580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3956040" y="5410080"/>
            <a:ext cx="2292480" cy="398880"/>
            <a:chOff x="3956040" y="5410080"/>
            <a:chExt cx="2292480" cy="398880"/>
          </a:xfrm>
        </p:grpSpPr>
        <p:sp>
          <p:nvSpPr>
            <p:cNvPr id="387" name=""/>
            <p:cNvSpPr/>
            <p:nvPr/>
          </p:nvSpPr>
          <p:spPr>
            <a:xfrm>
              <a:off x="3956040" y="5410080"/>
              <a:ext cx="1606680" cy="398880"/>
            </a:xfrm>
            <a:prstGeom prst="rect">
              <a:avLst/>
            </a:prstGeom>
            <a:solidFill>
              <a:srgbClr val="ff5c47"/>
            </a:solidFill>
            <a:ln w="381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860a8"/>
                  </a:solidFill>
                  <a:latin typeface="Verdana"/>
                </a:rPr>
                <a:t>56-64KB</a:t>
              </a: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62720" y="5600520"/>
              <a:ext cx="68580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6446160" y="4964040"/>
            <a:ext cx="178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16 requests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16 fragments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gabrie</dc:creator>
  <dc:description/>
  <dc:language>en-US</dc:language>
  <cp:lastModifiedBy>alexey korolev</cp:lastModifiedBy>
  <dcterms:modified xsi:type="dcterms:W3CDTF">2007-11-03T20:24:22Z</dcterms:modified>
  <cp:revision>23</cp:revision>
  <dc:subject/>
  <dc:title>Edit Scenario</dc:title>
</cp:coreProperties>
</file>